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C7F-7D17-4F07-8BAA-CAA21BEF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61A9-BF2E-4840-8BEC-8836F9F2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54D8-6825-47CB-8491-7EBB5479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A3CC-FB23-445C-8ECA-CBF2A5BF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D8A7-85A3-4AC5-B3EF-F5E43B80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8516-D3E5-46E8-B583-E83F3793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A8C6-B598-4DAF-BDF2-F5AD4241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EA9D-32E8-4204-9DEA-5F91A951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ACB2-851E-438E-8A31-C147AADD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1807-C8FB-4F3A-BED4-1BD26842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BED9-938E-4C10-A98D-96CE6E80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FADC-B046-4CEA-AF1B-53879B01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8D14-5406-4731-844D-0CA5736A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2EC3-8619-4050-B909-C18134AE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F3CE-5A45-4C80-A7FC-D292F390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6C07-39C3-41E9-B6B3-14867C1A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E18F-A7F9-499F-B211-B4C18E91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3DE8A-BA92-4718-A597-A2197EE1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B4DFA-676C-406A-803E-87FD642D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8D28D-81C7-4EAE-AAF2-A2C828C9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F6405-E07E-4F2D-A4E0-67D07E68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2C5BF-B74B-43B1-8786-2EEA7936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EB0-55F2-4880-8AA3-3D910C70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2EC70-BD3A-4E07-BE3C-29A353A3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F8F93-F05C-4EAC-8820-1F108AA8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57128-516B-403E-B0EC-7649EE30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1D078-E383-4B75-B50D-643C34A4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9CE61-6642-46C2-9FFE-0A16960E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873FF-6E5C-4773-B9FB-F5549007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BEE39-C911-400D-B24D-C1AB7BB0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ABF35-05E7-42C4-80AC-736D3DB7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DAA7D-2984-48B3-B33A-37421D60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614BC-29E5-4A67-A367-71805CEC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F8A-9AE3-4262-A45C-7E0B71F7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11A96-D45B-4203-9604-348F251C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48930-7880-4245-BF7A-18AC14FE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126D3-00B9-4C4C-AEFE-59DBAB39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2205F-660B-4E80-89E5-9F96DCDE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79EAC-C566-411B-9E2C-E49B24B2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7E9A0-4E37-41D2-BA18-41F8F119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15DA2-A6F0-4641-90D0-7D450E11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87482-08F9-4247-A93D-5B53D09E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55AE3-EBD8-4CA6-8E3F-0649F805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10852-225D-47F5-A34C-57C466FF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4A5C-E470-4241-A309-A42BBC29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5AD91-4947-4D49-A5BD-3FDD2375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31250-C1EB-4546-BD34-15450DB4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65C54-DC1E-44E5-A670-B5ED22D2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2A946-BC54-4A50-8B3C-474BE4DC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B80CA-0368-4DCB-858C-38A718DB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32553-0CF4-47B1-A368-A39F3721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84D9C-296C-4D80-B09C-BBA757A9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7A3BB-D3B3-49E9-BF3F-D5210B3A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3EB94-46A2-44EE-8219-446304FF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47741-DF05-42DD-AE80-8F5584CF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74C-805B-426E-B293-910E43F9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ED8E1-27C6-4201-B928-2D04BE8A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E2DD8-A070-4786-8917-8E72DDFE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9784D-E80E-4376-972E-EA701EEC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BC937-37BD-48EC-8BED-34B94B94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E1AD8-2B02-4D03-9B54-2B472DB4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D9890-3C6D-4452-80B6-FF3421A8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4C1D0-49ED-4A51-96F4-9EAA7C83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471CE-20B2-485D-BD41-4306C17C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83756-B4F5-4C76-A39B-8CC9B3AC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209B2-D6BD-4640-AA30-06D74B2E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6D7E-BB94-4310-B32D-CC67D3F4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7651A-963A-4C15-A8F0-F948A278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9CFF6-5D6D-4C25-AE63-A9463E8B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13E6E-CF64-4858-B205-FA563285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126B8-FB10-46A2-9D23-20608CD5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E1A7C-DD42-4F58-877F-D68A0D6A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08C6D-389E-4073-8806-B5CE8E21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6F82C-B6D3-4C0D-9692-58A097EB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27217-3B83-4EBD-B599-E425F10C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5CCE6-70B4-4996-AA81-6C4E0FEB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509BB-DE36-4D93-B396-14E2C91A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534-48FB-4A43-982E-F49A18A9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18644-7C61-46A7-A082-78AD6EB4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CE213-8490-46CF-B4F2-629C78CA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8824D-78AA-4917-A52E-E1B3F6DE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EBBC1-9D5E-4666-8287-91038EF3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BA1FE-9A9E-482B-94B4-C1FC09D9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2BA98-0B94-4121-AE9E-EF752E4F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453C1-0366-4EFB-BB24-3B56C03C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6294E-B508-4010-9B37-4FFBE89B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C4D72-F646-424D-8E6A-E3F765C2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FD232-FF63-4104-97CF-B4A7E367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C289-CAB8-4ABC-B5A3-2DCE8FCF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B0917-2A98-4C85-A81A-F23957B6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18EBB-BBCD-47A5-ACF8-9A41339B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26B54-EFD1-49AE-B7F4-CEDE8982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A2402-6C69-4DCE-8615-E48CAB5B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B2D61-931A-4BEC-B196-4BFB7FE2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4D15A-52A2-435F-8983-6E62E0D9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DC8BE-EF36-44BF-8FFC-C2BE0429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8288-7FD6-4C29-820C-45888F1A3AB4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80AA-B7CC-4D3B-8302-CC61A3B76CB1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EB68-8A6B-4642-B79F-742A70BA7E84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9F3C-5B44-4745-93B7-E23C449F5554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BE8F-D83D-41D5-97AC-3B22E596E61A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69C0-ED95-4047-A4B2-77095E158C50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387A-0222-4F2D-8631-FC9B11001226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FB22-7FDB-4646-B971-510F845545BC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401760"/>
            <a:ext cx="8083440" cy="18478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at did the first nations people receive in exchange for more land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Alcoh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payment of land called a reser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anim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of the l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at is a treaty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something you give your kids when they are goo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a contract for l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a contract for exchanging goo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 document that you sign to become a citizen of Cana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ich native culture lived in longhouse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Cre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Mohaw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Hai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of the ab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at was the objective behind the longhouse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so they could live in a big ho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They could share resou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So they could all live toge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For family reas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o are the largest aboriginal group in Canada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Mohaw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Hai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Cre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of the ab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at native group would you find in the Queen Charlotte Islands in BC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Cre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Hai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Mohaw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at does the term nomadic mea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they are mad when you make them ups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They follow wildlife from season to seas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They follow the warm wea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of the ab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How do the Cree move around in the wint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og sl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ano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Snowmob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oboggan and snow sho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he Haida were superb craftspeople, they ma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Bow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Cano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Box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of the ab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at Frist Nation tribe heat their entire village by using sawdus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Mohaw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Cre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Hai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of the ab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at is cultural diversity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having many people drawn from different cultural backgrou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having some people come from different provi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having people all from the same count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having a diverse cul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ich First Nations Tribe would you find around the Cornwall and New York State region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Hai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Mohaw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Cre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of the ab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en you get an opportunity to work on something in class from now on you will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Talk only about the assignment at h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Not sit there and do noth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Not look at magazi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of the ab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n example of multiculturalism i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Foo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Cloth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Relig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of the ab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o be a Canadian Citizen you mus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Be born in Cana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Eat Canadian Foo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Pass the Canadian Citizen te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Both A and 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Mother tongue i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a type of anim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your mothers tongu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the first language you were taught and underst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of the ab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thnic Origins ar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the type of food you were brought up wi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a type of l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your cultural backgrou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Where you want to live in the fu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boriginal people differ from each other by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where they li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their languag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their cul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of the ab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ho were the first treaties made betwe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Europe and Cana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Canada and the United Sta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European Federal Gov’t and First N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Pembroke and Petawaw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wo very important principles that had to be applied to the treaties wer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) land ownership had to be protected and receive fair pay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B) land ownership had to be protected and they had to give them blanke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) All of the rules will later be bro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D) All sides must have pizza and pepsi while negotia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2:27:17Z</dcterms:created>
  <dc:creator>Jason</dc:creator>
  <dc:description/>
  <dc:language>en-US</dc:language>
  <cp:lastModifiedBy>Jason</cp:lastModifiedBy>
  <dcterms:modified xsi:type="dcterms:W3CDTF">2010-11-30T12:57:12Z</dcterms:modified>
  <cp:revision>3</cp:revision>
  <dc:subject/>
  <dc:title>CGC 1P1 Quiz #5</dc:title>
</cp:coreProperties>
</file>